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9390-604D-4873-80E8-89671F47F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221F-164A-43BB-B08D-A6FAB6E54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9D88-8635-4588-A26C-C4F6D50C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olegiovascodagama.pt/ciencias3c/onze/biologiaunidade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D990-44D0-4C2E-80D6-DE8F3E323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5031-5566-41F5-A9AE-031FEDA1B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CF4C-13B5-49B6-9726-AC963B9F7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EA67-6C1A-4B03-9C98-0564F9F78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worldnews.com/articles/7407/20140604/pigs-successful-hosts-of-transplanted-stem-cell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6C99-93CE-4B8B-AEF4-5136DDD86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hyretiring2.blogspot.ca/2010_06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1D43-BF27-49B3-8A6E-3C2A2D870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F613-892D-41B2-B4D9-9F8AD68C7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incessleia.com/Lamarck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rom.on.ca/en/blog/mighty-burgess-shale-fossil-site-discovered-in-kootenay-national-p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B10B-86F3-460A-A169-ABCC71DA1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30D0-21E4-424A-87BC-AC7DD0270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eritagedaily.com/2015/09/testing-the-fossil-record/108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B078-DE1D-453E-B1BE-28B9E9628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156-B7B0-4082-9480-DB3D7C96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BFD-CF42-4210-AD4B-9FA15FA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CAE-B85A-4CEA-9DF4-7E3BAD1F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023-1BB6-498E-8DEF-80ADBBDE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56D-1715-48E0-95B5-137C9074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169-3C29-402D-94B4-497314A9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DB5-B3D9-468B-AB33-7E5A4515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6A9-8CE6-435A-8BE0-95883DAD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6EC-D737-4402-BCD2-338068C0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A6F-3FB3-4018-9FBE-2058FB3D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4D4-D2A2-4A1C-B4BA-3C745BD0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2F5-5BF8-407C-B1DF-DF01D629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3231-5F86-4A11-B02B-D73C22B7E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volution Of An Ide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astro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vier believed that species had not changed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uggested that a seri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astrop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d caused widespread exti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5" descr="72-Darwin-6.jpg"/>
          <p:cNvPicPr/>
          <p:nvPr/>
        </p:nvPicPr>
        <p:blipFill>
          <a:blip r:embed="rId1"/>
          <a:srcRect l="0" t="-30200" r="0" b="-30200"/>
          <a:stretch/>
        </p:blipFill>
        <p:spPr>
          <a:xfrm>
            <a:off x="0" y="126828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itari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Lyell (British lawyer &amp; geologist) suggested that geological changes are slow and gra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ial because it suggested that the Earth was very old &amp; that slow processes could result in large changes such as formation of mountain r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long time people believed that the Earth &amp; all living things had been created and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 the 1700s many scientists began to question the immu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 of Chan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scientist Georges-Louis Leclerc, Comte de Buffon wondered about the extra toes on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ig"/>
          <p:cNvPicPr/>
          <p:nvPr/>
        </p:nvPicPr>
        <p:blipFill>
          <a:blip r:embed="rId1"/>
          <a:stretch/>
        </p:blipFill>
        <p:spPr>
          <a:xfrm>
            <a:off x="4648320" y="2435400"/>
            <a:ext cx="38098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 of Chan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 Linnaeus &amp; Erasmus Darwin (Charle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ndfather) proposed that living organisms had changed over time, but didn’t know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volution was proposed by Jean-Baptiste Pierre Antoine de Monet, Chevalier de Lamar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’s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d dis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of ac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5" descr="dim.gif"/>
          <p:cNvPicPr/>
          <p:nvPr/>
        </p:nvPicPr>
        <p:blipFill>
          <a:blip r:embed="rId1"/>
          <a:srcRect l="-13027" t="0" r="-1302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of Acquired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giraffe_lamark"/>
          <p:cNvPicPr/>
          <p:nvPr/>
        </p:nvPicPr>
        <p:blipFill>
          <a:blip r:embed="rId1"/>
          <a:stretch/>
        </p:blipFill>
        <p:spPr>
          <a:xfrm>
            <a:off x="1695600" y="1981080"/>
            <a:ext cx="575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when dead organisms are mine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conditions are low-oxygen &amp; aquatic (sediment is continually deposi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5" descr="new_arthropod_rom_62976.jpg"/>
          <p:cNvPicPr/>
          <p:nvPr/>
        </p:nvPicPr>
        <p:blipFill>
          <a:blip r:embed="rId1"/>
          <a:srcRect l="0" t="-30990" r="0" b="-3099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 Record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fossils are of organisms that are no longer l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fossils of most living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s are often found very deep below the Earth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s are often found in unexpected lo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s Cuv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ontologist, in his detailed studies of fossils he obser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organisms found throughout, but complex only in shallower layers; shallow organisms resemble living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yers contain unique species that do not occur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3:12:05Z</dcterms:created>
  <dc:creator>rubina khan</dc:creator>
  <dc:description/>
  <dc:language>en-US</dc:language>
  <cp:lastModifiedBy>rubina khan</cp:lastModifiedBy>
  <dcterms:modified xsi:type="dcterms:W3CDTF">2018-02-22T17:11:39Z</dcterms:modified>
  <cp:revision>93</cp:revision>
  <dc:subject/>
  <dc:title>PowerPoint Presentation</dc:title>
</cp:coreProperties>
</file>